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3548-01B0-4570-A73F-4D7DC25C2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olt that secures the reverse idler shaft.  It must be removed before any further attempt to disassemble the unit.</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E6B4-2C07-44C6-B263-C89A28F7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asteners from the front bearing retainer.</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87A7-7B21-43DF-B230-CDA595F98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ed by removing the front bearing retainer.</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3C1B-629D-4E23-8086-09E8F1B9A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input shaft to front bearing snap ring retainer.</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C4ED-E907-4EE8-8963-407E49101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snap ring retainer that attaches the input shaft to the front bearing assembl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A8F7-F215-4B40-A4F7-2CE071242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you can separate the case halve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40E2-64E2-43F9-945A-61AB0453B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removal of the fasteners that retain the front case half to the rear case half.</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5AA1-B73E-4BCA-89EC-A3494CC3F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ttach the holding fixture, you must use the holding fixture adapter shown in the picture.  Also, notice the backup light switch located just above the holding fixture.  Remove the backup light switch at this tim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5D66-96AD-4BA5-8EFC-361019D06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 the dowel pins (2) from the case using a 3/16” straight pin punch.  It will make the case halves easier to separate and reassemble if they are removed.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A5A0-30E2-46C5-887E-1E595F389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ol shown to remove the plug that retains the detent plunger and spring.</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5066-A860-46F6-B73A-DFCABE912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 a slide hammer to the tool to complete the removal of the detent plug.</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5503-8F5B-4BA6-9F08-BFA054554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lug, spring, and plunger can be removed in the order shown.</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4DC4-A410-4099-A44D-454BA43B3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move the interlock bolt as show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8513-F9CB-48DF-B8C0-31C94937C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09834-DE1A-4E73-A19E-83CF00F60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79EA-ED1D-4BC7-94AC-87E7C7F2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370AA-4455-42B5-97A6-2FF519FE5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48E6D-A308-4F9C-876D-AC733C14A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B25DB-5301-4C6D-AFC2-6B77AAF2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292A-CCEB-40AF-9A15-350A25CC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DBCE-5FAF-4960-95C3-57FC96FF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2A52-CEFE-40F0-B297-EC6E75E0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0AE7-9DBC-458C-A11E-A5624AF75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F72D-EE29-430F-BA5B-B2551F00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416A-0375-4618-9B3A-CFA82293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F68F-FFEB-4F4B-A599-AADF4B371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5FC5-F501-4EBB-AC22-350FD04E3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My Documents 1\Audio Visual Files\MANUAL TRANS MEDIA\MANUAL PICS\Manual 14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My Documents 1\Audio Visual Files\MANUAL TRANS MEDIA\MANUAL PICS\Manual 17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My Documents 1\Audio Visual Files\MANUAL TRANS MEDIA\MANUAL PICS\Manual 17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My Documents 1\Audio Visual Files\MANUAL TRANS MEDIA\MANUAL PICS\Manual 17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My Documents 1\Audio Visual Files\MANUAL TRANS MEDIA\MANUAL PICS\Manual 18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My Documents 1\Audio Visual Files\MANUAL TRANS MEDIA\MANUAL PICS\Manual 0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My Documents 1\Audio Visual Files\MANUAL TRANS MEDIA\MANUAL PICS\Manual 0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My Documents 1\Audio Visual Files\MANUAL TRANS MEDIA\MANUAL PICS\Manual 181.jpg"/>
          <p:cNvPicPr/>
          <p:nvPr/>
        </p:nvPicPr>
        <p:blipFill>
          <a:blip r:embed="rId1"/>
          <a:stretch/>
        </p:blipFill>
        <p:spPr>
          <a:xfrm>
            <a:off x="205740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My Documents 1\Audio Visual Files\MANUAL TRANS MEDIA\MANUAL PICS\Manual 0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My Documents 1\Audio Visual Files\MANUAL TRANS MEDIA\MANUAL PICS\Manual 0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My Documents 1\Audio Visual Files\MANUAL TRANS MEDIA\MANUAL PICS\Manual 18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My Documents 1\Audio Visual Files\MANUAL TRANS MEDIA\MANUAL PICS\Manual 14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My Documents 1\Audio Visual Files\MANUAL TRANS MEDIA\MANUAL PICS\Manual 18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26" descr="C:\My Documents 1\Audio Visual Files\MANUAL TRANS MEDIA\MANUAL PICS\Manual 185.jpg"/>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My Documents 1\Audio Visual Files\MANUAL TRANS MEDIA\MANUAL PICS\Manual 18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My Documents 1\Audio Visual Files\MANUAL TRANS MEDIA\MANUAL PICS\Manual 18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6" descr="C:\My Documents 1\Audio Visual Files\MANUAL TRANS MEDIA\MANUAL PICS\Manual 190.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My Documents 1\Audio Visual Files\MANUAL TRANS MEDIA\MANUAL PICS\Manual 19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My Documents 1\Audio Visual Files\MANUAL TRANS MEDIA\MANUAL PICS\Manual 1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My Documents 1\Audio Visual Files\MANUAL TRANS MEDIA\MANUAL PICS\Manual 19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My Documents 1\Audio Visual Files\MANUAL TRANS MEDIA\MANUAL PICS\Manual 1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26" descr="C:\My Documents 1\Audio Visual Files\MANUAL TRANS MEDIA\MANUAL PICS\Manual 194.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C:\My Documents 1\Audio Visual Files\MANUAL TRANS MEDIA\MANUAL PICS\Manual 145.jpg"/>
          <p:cNvPicPr/>
          <p:nvPr/>
        </p:nvPicPr>
        <p:blipFill>
          <a:blip r:embed="rId1"/>
          <a:stretch/>
        </p:blipFill>
        <p:spPr>
          <a:xfrm>
            <a:off x="144792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My Documents 1\Audio Visual Files\MANUAL TRANS MEDIA\MANUAL PICS\Manual 00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My Documents 1\Audio Visual Files\MANUAL TRANS MEDIA\MANUAL PICS\Manual 15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My Documents 1\Audio Visual Files\MANUAL TRANS MEDIA\MANUAL PICS\Manual 160.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My Documents 1\Audio Visual Files\MANUAL TRANS MEDIA\MANUAL PICS\Manual 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My Documents 1\Audio Visual Files\MANUAL TRANS MEDIA\MANUAL PICS\Manual 16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My Documents 1\Audio Visual Files\MANUAL TRANS MEDIA\MANUAL PICS\Manual 16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My Documents 1\Audio Visual Files\MANUAL TRANS MEDIA\MANUAL PICS\Manual 16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My Documents 1\Audio Visual Files\MANUAL TRANS MEDIA\MANUAL PICS\Manual 16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My Documents 1\Audio Visual Files\MANUAL TRANS MEDIA\MANUAL PICS\Manual 16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My Documents 1\Audio Visual Files\MANUAL TRANS MEDIA\MANUAL PICS\Manual 17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My Documents 1\Audio Visual Files\MANUAL TRANS MEDIA\MANUAL PICS\Manual 15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My Documents 1\Audio Visual Files\MANUAL TRANS MEDIA\MANUAL PICS\Manual 17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My Documents 1\Audio Visual Files\MANUAL TRANS MEDIA\MANUAL PICS\Manual 17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My Documents 1\Audio Visual Files\MANUAL TRANS MEDIA\MANUAL PICS\Manual 17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My Documents 1\Audio Visual Files\MANUAL TRANS MEDIA\MANUAL PICS\Manual 17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My Documents 1\Audio Visual Files\MANUAL TRANS MEDIA\MANUAL PICS\Manual 17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My Documents 1\Audio Visual Files\MANUAL TRANS MEDIA\MANUAL PICS\Manual 194.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C:\My Documents 1\Audio Visual Files\MANUAL TRANS MEDIA\MANUAL PICS\Manual 15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My Documents 1\Audio Visual Files\MANUAL TRANS MEDIA\MANUAL PICS\Manual 1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My Documents 1\Audio Visual Files\MANUAL TRANS MEDIA\MANUAL PICS\Manual 15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5" name="Picture 2" descr="C:\My Documents 1\Audio Visual Files\MANUAL TRANS MEDIA\MANUAL PICS\Manual 148.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My Documents 1\Audio Visual Files\MANUAL TRANS MEDIA\MANUAL PICS\Manual 14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0:29:43Z</dcterms:created>
  <dc:creator>OSU- Employee</dc:creator>
  <dc:description/>
  <dc:language>en-US</dc:language>
  <cp:lastModifiedBy>Moo</cp:lastModifiedBy>
  <dcterms:modified xsi:type="dcterms:W3CDTF">2013-03-19T13:50:03Z</dcterms:modified>
  <cp:revision>4</cp:revision>
  <dc:subject/>
  <dc:title>PowerPoint Presentation</dc:title>
</cp:coreProperties>
</file>